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5C62-13EB-4D78-A63D-DBC7B349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2E91-EEC5-40BE-886E-9DC7B5A0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D120-E928-4968-889C-BAD43912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D2F8-ECD3-4AA1-AB0A-694B0A02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64DD-EDC0-4040-ADF5-7C0CD1F4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F011-E13F-4FC4-949D-7080D446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9EC3-1979-429B-A22E-8A11B215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F775-9C88-4FB4-B13E-27571E7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AF3B-52A6-4A38-99E7-DB198BE2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5397-EB5C-4067-99D8-C00443D3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6F9-F91C-44DE-86A5-5945ADA1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F9E9-02AB-4098-9C09-9078C765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50E6-4BEB-4427-93FF-BC1F72FA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5471-8E98-4A1E-93C3-DD62232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00C8-12A3-4F54-9899-ECDB7ACA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F42F-F777-493C-B733-CD88250F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E507-2654-4CAA-B0C1-ACC05C14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1B97-4858-4BBE-A4F8-65A757D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2A5B-BBB6-4747-9CEB-79C36077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D5F7-40A8-424F-817A-9691CAA8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6ED8-C2D4-4373-BE48-7BD042D7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C0C1-1D8F-4076-ABCB-68D85FC0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B3F2-D0AC-4F3E-86A1-7DF3746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C251-7A86-4B42-B5E2-412B8A4A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A0D-89AC-42F1-900F-694E8A5838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EC0D-7C02-4546-A407-B145B7D766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временный урок в соответствии с новым ФГОС третьего поколения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 первый план выходит реализация 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принципа деятельности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, причём самостоятельной деятельности учащихся.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ефлексия – это самоанализ, осмысление, оценка предпосылок, условий и течения собственной деятельности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кл. Органы растен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идит-зеленеет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Летит-пожелтеет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Упадёт-почернеет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кл. Семейства растений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 грядке за амбаром разросся стебель шаром.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Цветок – напрасны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лод – опасны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 поле всё засеяно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.____________________растений начинается с поступления раствора минеральных солей в клетки _______________ волосков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2.Азотные соли необходимы для _______________, фосфорные и калийные усиливают _______________ и __________________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3.Развитие придаточных корней можно усилить таким агротехническим приёмом, как ____________________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4.Важной функцией корня является его участие в _________________ размножении.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826920" y="907920"/>
            <a:ext cx="7490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считайте, сколько дней бактерии могут сохранять свою жизнь в виде спор, если известно, что споры холеры выдерживают неблагоприятные условия 2 дня; чумы в 4раза, тифа в 30 раз, туберкулёза в 150 , сибирской язвы в 1826 раз дольше, чем холе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онцепция современного уро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поло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а ценностей и миссия педаго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ебования к современному уро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итерии эффективности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ходы к организации современного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структор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а оценки достижения планируемых результатов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О»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вводное занятие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образное представление об изучаемой теме – осмысление практической и социальной значимости – рефлексия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изучение и первичное    закрепление новых   знаний      и способов   деятельности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субъектного опыта учащихся – организация восприятия – организация осмысления – первичная проверка понимания – организация первичного закрепления – анализ – рефлекс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закрепление    знаний и способов деятельности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ведущих знаний и способов действий – конструирование образца применения знаний в стандартной и изменённой ситуациях – самостоятельное применение знаний – контроль и самоконтроль – коррекция – рефлекс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3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комплексное    применение   знаний   и способов   деятельности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комплекса знаний и способов деятельности – самостоятельное применение знаний в сходной и новой ситуациях – самоконтроль и контроль – коррекция – рефлексия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4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обобщение и систематизация знаний и способов  деятельности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нализ содержания учебного материала – выделение главного  -обобщение и систематизация – установление внутрипредметных и межпредметных  связей – рефлекс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проверка и оценка знаний  и способов деятельности  уч-ся)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самостоятельное выполнение заданий – самоконтроль – контроль – анализ,  оценка – коррекция – рефлекс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</a:t>
            </a:r>
            <a:r>
              <a:rPr b="1" lang="ru-RU" sz="3200" spc="-1" strike="noStrike" baseline="30000">
                <a:solidFill>
                  <a:srgbClr val="e5e5ff"/>
                </a:solidFill>
                <a:latin typeface="Garamond"/>
              </a:rPr>
              <a:t>1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коррекция знаний и способов   деятельности учащихся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.Организационный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эта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Этап проверки домашнего задания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3.Этап актуализации субъектного опыта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4.Этап изучения новых знаний и способов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5.Этап первичной проверки понима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6.Этап закрепле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7.Этап примене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8.Этап обобщения и систематизац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9.Этап контроля и самоконтроля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0.Этап коррекц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1.Этап информации о домашнем задан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2.Этап подведения итогов учебного занятия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3.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ефлекс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хотнице – сове средь ночи тёмной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е жаль певца любви и неги томно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 соловей съедает светляка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е посмотрев на прелесть огонька;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ветляк же – ночи светоч оживлённый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ползая вверх, цветок съедает сонный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6:28:52Z</dcterms:created>
  <dc:creator>Макс</dc:creator>
  <dc:description/>
  <dc:language>en-US</dc:language>
  <cp:lastModifiedBy>max</cp:lastModifiedBy>
  <dcterms:modified xsi:type="dcterms:W3CDTF">2024-12-17T14:50:36Z</dcterms:modified>
  <cp:revision>21</cp:revision>
  <dc:subject/>
  <dc:title>           1. Растения являются основными производителями (продуцентами) органического вещества.  2. Растения характеризуются ограниченным ростом.  3. Все растения по способу питания являются автотрофными организмами.</dc:title>
</cp:coreProperties>
</file>